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61D-0474-4117-916C-AC780B50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3B4-F423-4F71-B654-29487441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CC3-7AE9-4054-9B52-D05E83B4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04D-D94D-4379-A649-FBDA85DB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D4D-F932-49A2-9D82-2336B824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5B45-C369-4EF4-9F92-83BB37F4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89CC-C388-4509-BC80-4D4C15B8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D63A-CBF4-4717-9803-03237504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14A4-C887-42DD-892F-E546B5B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B40F-5C2C-440E-B68D-28964663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6728-75BD-4E74-B0E7-DE2E4E4A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FB5-E42A-4AF4-8212-03C43717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4175-83C2-46D0-A12E-055A07E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74D3-CBAF-4C66-BF90-0E137B8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B39D-8E89-4C45-A6C0-3A5A1DB8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B879-27DA-41D7-A61C-8EBD05E9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1068-92C8-4FDC-8E57-6A5408C7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BC6-0002-43B7-AC8C-D266068C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39E-CE3F-4FCD-8CA9-0C58D007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D4D-682A-4909-914F-B9D1E887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822-9330-4524-81DA-A46D0244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564-C820-41AB-88D2-B747B950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087-40D5-49DE-A3A1-7AB4061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F20-4925-43DC-A2E5-B881C287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F1AE-C806-40D7-8772-E134D7398D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3CEC-81CE-4D40-AEBC-4371BD8CCA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дина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 Основные опред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 Уравнение неразрыв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3 Уравнения движения Эйл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4 Уравнение Бернул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5 Гидродинамическое подоб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ает закономерности движения жидк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понят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Объемный расход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Массовый расх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Средняя скор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Гидравлический радиус канал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моченный пери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Эквивалентный диа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880"/>
            <a:ext cx="434340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19720" y="2590920"/>
                <a:ext cx="97128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43400" y="3048120"/>
                <a:ext cx="12384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343400" y="3657600"/>
                <a:ext cx="846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19920" y="4572000"/>
                <a:ext cx="982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И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19320" y="5181480"/>
                <a:ext cx="298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9200" y="5638680"/>
                <a:ext cx="10936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И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жимы 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минарный - слои жидкости движутся параллельно друг другу без ускорения или равноускор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рбулентный – слои перемешиваются, наблюдаются завихрения и пульс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 движения определяют по числу Рейнольдса (критер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терий Рейнольдса: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коэффициент кинематической вяз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р=2320  - критическое значение числа Рейнольдса для труб (указывает на переход от ламинарного к турбулентному режиму)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533520"/>
            <a:ext cx="449568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267080" y="3581280"/>
                <a:ext cx="1979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э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ρ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371600" y="4267080"/>
                <a:ext cx="8031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корость течения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дкости в произвольном радиу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е неразры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мный расход через любое сечение потока жидкости величина постоян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80880"/>
            <a:ext cx="419112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1447920"/>
            <a:ext cx="2437920" cy="914040"/>
            <a:chOff x="914400" y="1447920"/>
            <a:chExt cx="2437920" cy="914040"/>
          </a:xfrm>
        </p:grpSpPr>
        <p:sp>
          <p:nvSpPr>
            <p:cNvPr id="131" name=""/>
            <p:cNvSpPr/>
            <p:nvPr/>
          </p:nvSpPr>
          <p:spPr>
            <a:xfrm>
              <a:off x="914400" y="14479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14400" y="23583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38120" y="1447920"/>
              <a:ext cx="9129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05" y="269"/>
                  </a:moveTo>
                  <a:arcTo wR="10800" hR="10800" stAng="-6168615" swAng="12471707"/>
                  <a:lnTo>
                    <a:pt x="10800" y="10800"/>
                  </a:lnTo>
                  <a:close/>
                </a:path>
                <a:path fill="none" w="21600" h="21600">
                  <a:moveTo>
                    <a:pt x="8405" y="269"/>
                  </a:moveTo>
                  <a:arcTo wR="10800" hR="10800" stAng="-6168615" swAng="1247170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1675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1902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2130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560" y="1614600"/>
              <a:ext cx="761760" cy="7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1902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1447920"/>
              <a:ext cx="0" cy="9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038480" y="1066680"/>
                <a:ext cx="1886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η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962520" y="1600200"/>
                <a:ext cx="16160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685800" y="4038480"/>
            <a:ext cx="3428640" cy="1360080"/>
            <a:chOff x="685800" y="4038480"/>
            <a:chExt cx="3428640" cy="1360080"/>
          </a:xfrm>
        </p:grpSpPr>
        <p:grpSp>
          <p:nvGrpSpPr>
            <p:cNvPr id="145" name=""/>
            <p:cNvGrpSpPr/>
            <p:nvPr/>
          </p:nvGrpSpPr>
          <p:grpSpPr>
            <a:xfrm>
              <a:off x="685800" y="4038480"/>
              <a:ext cx="3025080" cy="805320"/>
              <a:chOff x="685800" y="4038480"/>
              <a:chExt cx="3025080" cy="805320"/>
            </a:xfrm>
          </p:grpSpPr>
          <p:sp>
            <p:nvSpPr>
              <p:cNvPr id="146" name=""/>
              <p:cNvSpPr/>
              <p:nvPr/>
            </p:nvSpPr>
            <p:spPr>
              <a:xfrm rot="5400000">
                <a:off x="1593720" y="4340520"/>
                <a:ext cx="805320" cy="201240"/>
              </a:xfrm>
              <a:custGeom>
                <a:avLst/>
                <a:gdLst>
                  <a:gd name="textAreaLeft" fmla="*/ 191880 w 805320"/>
                  <a:gd name="textAreaRight" fmla="*/ 613440 w 805320"/>
                  <a:gd name="textAreaTop" fmla="*/ 47880 h 201240"/>
                  <a:gd name="textAreaBottom" fmla="*/ 153360 h 20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480" y="21600"/>
                    </a:lnTo>
                    <a:lnTo>
                      <a:pt x="612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685800" y="4239720"/>
                <a:ext cx="121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685800" y="4642200"/>
                <a:ext cx="121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7360" y="4038480"/>
                <a:ext cx="161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97360" y="4843800"/>
                <a:ext cx="161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7400" y="444096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00920" y="4440960"/>
                <a:ext cx="10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702520" y="4045320"/>
              <a:ext cx="403200" cy="792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7400" y="4246560"/>
              <a:ext cx="201240" cy="402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4649040"/>
              <a:ext cx="604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2520" y="4850640"/>
              <a:ext cx="605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2560" y="4246560"/>
              <a:ext cx="604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9280" y="4246560"/>
              <a:ext cx="605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914400" y="1828800"/>
            <a:ext cx="6933960" cy="1752120"/>
            <a:chOff x="914400" y="1828800"/>
            <a:chExt cx="6933960" cy="1752120"/>
          </a:xfrm>
        </p:grpSpPr>
        <p:sp>
          <p:nvSpPr>
            <p:cNvPr id="160" name=""/>
            <p:cNvSpPr/>
            <p:nvPr/>
          </p:nvSpPr>
          <p:spPr>
            <a:xfrm>
              <a:off x="1458000" y="2963520"/>
              <a:ext cx="815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4400" y="2147040"/>
              <a:ext cx="815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65880" y="1974960"/>
              <a:ext cx="1087560" cy="10857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729800" y="2428560"/>
              <a:ext cx="543600" cy="27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273760" y="28357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682000" y="2293200"/>
              <a:ext cx="5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94080" y="1839240"/>
              <a:ext cx="0" cy="13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4080" y="2972160"/>
              <a:ext cx="19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5840" y="2972160"/>
              <a:ext cx="40788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9880" y="1828800"/>
              <a:ext cx="815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14400" y="2963520"/>
              <a:ext cx="34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25960" y="3098520"/>
              <a:ext cx="341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86200" y="1828800"/>
              <a:ext cx="341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41360" y="1828800"/>
              <a:ext cx="38070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- ускор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- сила, вызывающая      движение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я движения Эйл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880"/>
            <a:ext cx="419112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30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200400" y="1752480"/>
                <a:ext cx="5284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28800" y="3200400"/>
                <a:ext cx="517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90720" y="2362320"/>
                <a:ext cx="428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29200" y="1752480"/>
                <a:ext cx="3348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67080" y="2362320"/>
                <a:ext cx="551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80880" y="37335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элементарный объем действует силы давления и тяже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52480" y="4495680"/>
                <a:ext cx="183852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dydz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dydz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191120" y="373356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вновесии приравниваем к силам вызывающим движение. После преобраз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00800" y="4495680"/>
                <a:ext cx="163368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dυ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τ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dυ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τ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ρ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е Бернул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ив и продифференцировав (1), получаем уравнение Бернулли для идеальной жидкости (без трения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380880"/>
            <a:ext cx="434340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2286000"/>
                <a:ext cx="1982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685800" y="2133720"/>
            <a:ext cx="3200400" cy="2554200"/>
            <a:chOff x="685800" y="2133720"/>
            <a:chExt cx="3200400" cy="2554200"/>
          </a:xfrm>
        </p:grpSpPr>
        <p:sp>
          <p:nvSpPr>
            <p:cNvPr id="199" name=""/>
            <p:cNvSpPr/>
            <p:nvPr/>
          </p:nvSpPr>
          <p:spPr>
            <a:xfrm flipV="1">
              <a:off x="914040" y="2133720"/>
              <a:ext cx="0" cy="22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971800" y="38473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00120" y="2819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040" y="44190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8520" y="327600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85720" y="281916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00200" y="37332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327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373320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7400" y="350460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57120" y="304776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42920" y="361908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22478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85720" y="22478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171520" y="2247840"/>
              <a:ext cx="0" cy="13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0" y="2247840"/>
              <a:ext cx="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00120" y="2247840"/>
              <a:ext cx="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2247840"/>
              <a:ext cx="0" cy="18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71600" y="304812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54" y="873"/>
                  </a:moveTo>
                  <a:arcTo wR="10800" hR="10800" stAng="-4008315" swAng="4008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54" y="873"/>
                  </a:moveTo>
                  <a:arcTo wR="10800" hR="10800" stAng="-4008315" swAng="40083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257120" y="2933640"/>
              <a:ext cx="227880" cy="22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09" y="12"/>
                  </a:moveTo>
                  <a:arcTo wR="10800" hR="10800" stAng="-5237780" swAng="523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09" y="12"/>
                  </a:moveTo>
                  <a:arcTo wR="10800" hR="10800" stAng="-5237780" swAng="523778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929960" y="3503160"/>
              <a:ext cx="227880" cy="2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54" y="873"/>
                  </a:moveTo>
                  <a:arcTo wR="10800" hR="10800" stAng="-4008315" swAng="4008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54" y="873"/>
                  </a:moveTo>
                  <a:arcTo wR="10800" hR="10800" stAng="-4008315" swAng="40083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44080" y="359784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54" y="873"/>
                  </a:moveTo>
                  <a:arcTo wR="10800" hR="10800" stAng="-4008315" swAng="4008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54" y="873"/>
                  </a:moveTo>
                  <a:arcTo wR="10800" hR="10800" stAng="-4008315" swAng="40083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14320" y="22478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2247840"/>
              <a:ext cx="0" cy="12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4320" y="2476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040" y="224784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00120" y="2704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847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1800" y="22478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800" y="270468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4520" y="224784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00120" y="2704680"/>
              <a:ext cx="114120" cy="938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1520" y="2247840"/>
              <a:ext cx="114120" cy="137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4320" y="2476440"/>
              <a:ext cx="114120" cy="914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85720" y="2247840"/>
              <a:ext cx="114120" cy="914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6280" y="3047760"/>
              <a:ext cx="3427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8720" y="2933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3200" y="3961800"/>
              <a:ext cx="34272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28720" y="2247840"/>
              <a:ext cx="36864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43480" y="4419000"/>
              <a:ext cx="34272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5800" y="2247840"/>
              <a:ext cx="34272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624040" y="2209680"/>
                <a:ext cx="303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666880" y="3048120"/>
                <a:ext cx="330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3657600" y="2698560"/>
            <a:ext cx="486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оответствии с рисунком  с учетом потерь напора на преодоление сил трения можно записат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267080" y="3505320"/>
                <a:ext cx="318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561920" y="419004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(для реальной жидкост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678040" y="3321000"/>
                <a:ext cx="2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2895120" y="17751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5038920"/>
            <a:ext cx="434340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 полный напор 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геометрический нап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76172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статический (пьезометрический) нап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42960" y="55616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скоростной (динамический) нап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09480" y="4876920"/>
                <a:ext cx="1096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91120" y="4800600"/>
                <a:ext cx="323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191120" y="5486400"/>
                <a:ext cx="284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0" y="0"/>
                <a:ext cx="237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теря напора. Возникает за счет трения. Коэффициенты потери напора по длине трубопров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минарный  ,                      турбулент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дравлические сопротивления (трение и места возникновения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Вводный и переходной патрубки         4. Поворот тру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Сосуд большого объема                       5. Вентили, кр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Сужение, расши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ергетический смысл уравнения Бернул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лная энергия;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– потенциальная энерг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ельная кинетическая энер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380880"/>
            <a:ext cx="419112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523880" y="1981080"/>
                <a:ext cx="8748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572000" y="1981080"/>
                <a:ext cx="1116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164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29000" y="5105520"/>
                <a:ext cx="33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57200" y="5791320"/>
                <a:ext cx="30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гидродинамического подоб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метрическое подоби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дродинамическое подобие – подобны поля физических величин характеризующих я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критерий Ньютона 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модель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нату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Критерий Фруда:                                              - соотношение силы тяжести и инер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Критерий Эйлера:                                            - соотношение силы давления и инер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Критерий Галлилея:                                         - соотношение силы вязкого трения и тяже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Критерий  Грасгофа:                              - соотношение силы вязкого трения и подъемной сил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Критерий гомохронности:                                         - неустановившийся характер дви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457200"/>
            <a:ext cx="411480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67080" y="1752480"/>
                <a:ext cx="1474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590920" y="3124080"/>
                <a:ext cx="880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num>
                      <m:den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429000" y="3505320"/>
                <a:ext cx="684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num>
                      <m:den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90920" y="3962520"/>
                <a:ext cx="8175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429000" y="4343400"/>
                <a:ext cx="744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666880" y="4800600"/>
                <a:ext cx="1087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Δt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657600" y="5257800"/>
                <a:ext cx="704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τ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5T12:24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